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1D6B-F23F-4443-A94D-E9FF0BB9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C6F6-84B5-440D-9C69-0D13C095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C154-8FD9-4D72-A5C4-BEEB894E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8707-FE82-49B6-8C2E-2F38188D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4CA6-7A3A-4764-8F5F-CA6B16F1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AFD7-F8EA-4224-ABF3-6BB689D4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E9D5-9F2A-4F78-B8D1-A15D481B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1D66-3DF8-48B0-95C0-AB75FC5F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FD8C-364E-4FD1-BF31-D62D3743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5455-6E7B-43E8-A3D6-64707525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43F6-5EC1-4B6D-B0D6-04C8992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86E7-24CF-405E-8C5B-78BE6224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8F32-660B-45FF-869D-B25AF12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6584-3089-40AD-B656-29E20EE1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9B7D-1076-4154-8464-637A2002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2765-5DF9-454D-B347-AAE9C880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BC87-EAD8-4EA4-8FF4-9F6DEF7E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544A-DFB8-4646-937D-F0347B50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4E1D-70EF-475E-BFA9-5C48353E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9B73-64D2-4105-A11C-86A9C421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D63D-4468-4F8B-8D9D-D172701F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C223-E22C-4799-A98A-E13E1CCC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18AB-46AE-4F46-A05F-E7031DC3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DF2A-A2B3-4179-A170-98778F9E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EAF3-BD18-4B8A-B592-B307FAD388D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B52A-87A4-4DD7-A3D3-CFE44293DD8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082160"/>
            <a:ext cx="11131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6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4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и хиляди годи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инай дочу се гл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закона Си изреч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достигна и до нас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Чуй, що вика Господ Бог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Освен Мен да нямаш Бог!"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върха на планина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й се силен тръбен звук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ри се, о, народе Бож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ят Бог говори тук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"Не прави си ти куми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е се покланяй в мир!"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0217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трени крила Го нося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али гледат Го в лице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а целий свят да чу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 да вземе присърце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"Святото ми име 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страх и почит говори!"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във същий час тържеств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уря и мрак като нощ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репет, о, човече, слуш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говори Бог твой с мощ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"Съботата, Моя д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пази - ще си блажен!"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0217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родители почит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ждия живот щад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ят бъди и целомъдр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жд имот ти не крад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Знай, кат свършиш този пъ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ще те извика в съд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тината да обичаш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лъжата влез във б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кога не пожелава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й, що има ближний тво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Щом почиташ тоз зако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ще влезеш в вечний дом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32:06Z</dcterms:modified>
  <cp:revision>51</cp:revision>
  <dc:subject/>
  <dc:title>Slide 1</dc:title>
</cp:coreProperties>
</file>